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87C0-5FF1-40C7-BDE1-ADFCCA528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91D7-6BD5-4E47-ABBB-5D8127795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6831-7341-4666-A336-D1C5906C8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E547-A82E-48A4-9994-63A6749AF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8725-9E5F-4FC0-9938-09F748595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5C74-533B-4B8E-AAC7-405B78D7C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8EC1-8324-4C92-9A1E-BD21419AD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1879-670C-4631-B9D7-DB3E69BF6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9F3F-464D-486B-8267-76CEE3AAF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2BA9-4994-464B-9F3D-33253D3B0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42D6-6BD1-4E40-8E3B-4D89C43E7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C1F9-DB5F-4F43-B800-0048040B7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7A72-F140-43E5-9E48-7622AB2E6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B61B-5797-40B8-A09C-0709146E9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DE1A-70D2-4C29-82AB-D21A97B72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D036-6C46-408A-BB5E-40581FA7E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9AE9-0A59-401C-9700-34A6A0DE4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C3BE-9DB3-4F11-9594-380F6CC7E04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0233E-CB92-47F1-8BD6-39222A07D74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0A6D7-3800-465D-BD11-59A6268CF78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A7877-6AB5-4ED9-AED9-55DC810954E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89795-6FF1-4097-A929-B748FF57EF5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46689-438C-4C58-A656-57532E59EA9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E4997-C6F9-4464-B8D8-ECB3001A0F6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13477-A291-4559-A205-8797C4F4599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A2386-FFC7-42E6-B901-4B059DC904F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323C2-D7C7-44F9-8797-06279718297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006F33-53C8-4F58-85F2-1C188690A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7EE9-0249-41A9-963B-8E60D9DE0CF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7DB4D-E7AC-4E7E-8951-FBFAC4A753C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B72BE-08E5-4F3B-AC22-38DE512A7E3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70FD1B-3222-4C6D-ACA8-715F6D99142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DE8AD1-4804-4C6F-964B-722597DE70E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5F899D-FDD2-46D2-883B-D8066886D83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FC964-DE81-4326-9FAD-5B4E7790319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2D1B84-4859-4FE8-A527-4B3EB20CDCB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14F8D-1337-487B-94FC-FD23C956C65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69013-5EA6-413B-B270-FB678CA9289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74B15-5BDF-4E37-B046-83B7951C2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A3EE6-FCF0-4789-BB97-CFC09ED72CE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7F0AFF-224A-4C2B-A857-194D58E1E97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576239-6CA8-47EF-9F5A-CB72ED07A94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CB179E-D21D-4DF3-9650-EA4A8B04C86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42D025-406D-47AC-86D6-C58FA494C04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D4C072-4494-4685-AC7C-0A4B05591DF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808504-F0AE-4802-90ED-B6F992F1E86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2BC42A-3D95-4921-831F-ACC82E1EC87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A59848-156C-46A7-9F15-8886AB519DD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D6649F-2BA3-4C09-8242-7309AE34D57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49207E-841E-430F-8463-173014901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1A5D1-8C16-40F4-84C2-D332AE1D562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B01F47-7338-4C4C-8A64-CCEA2126EBB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B437CF-C709-4EFA-9C42-4BEAA31BE03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BB42ED-E5EC-4275-9F95-496EB583CA0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77FA7-B71F-4900-8A9B-7C0E7600062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B75CE-C54D-4E7E-B101-F5DDC3A6D5A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DB3F6-6F31-4964-8042-E255E544B30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3016E-3A10-4B1C-A194-5996C8F1CC5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C5695-CB0B-4241-9F8D-7D954C59A5B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41C42-9757-47BB-A70E-C8DEC3A0106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884D4-01D7-4D9F-BC9D-31DBFD1A9C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15526-BD9A-42AE-AB8F-51D8F3D378A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8A059-9A9F-420D-BF64-F2914141EC8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2EF55-F6A1-4E90-9B93-8C044D1ECF5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87643-F517-492E-966B-ECFC0837248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9DCF1-9B4B-421F-A82E-B7E6EC39C36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5BDD1-1093-4986-A4BE-FC03D76172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B6F7C-B78E-4AC8-98D3-0B75FB2C8F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417C7-0ED3-4BAC-AA84-6E2F44037B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97DC6-18BE-46C4-ABE2-7606584A83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C45CB-196A-4CFC-AF78-72BF81656B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38E04-3F39-49F7-B371-B540D54AD8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2CEC-6C8A-4A3D-AB3F-D9514FD9D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34C9C-72DB-4639-9455-E59FFC7586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AC609-4269-4345-9F02-1F49919F23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79535-0F37-4683-A38A-64553AD5B2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A4D37-9FC3-4856-AEDC-DB5555A02B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4F6CC-143C-4D4D-9AD4-4622869CC4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4AE5-43F7-4B2C-A214-932CB6B9CD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C9BD-0EDB-49DE-A09C-9CDBE5E2D3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DCFF-9D7A-4691-89B0-ED4BB687FE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A5F5-D66A-402A-ABA5-D0F1AD65F7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6E13-B37C-46BF-8507-3254CC831E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AB0DB-53DC-4265-94A8-6B2E597342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8779-9FE7-49E6-9B9D-29C7DA5E46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EC48-3F8E-4DA3-B228-0E123288F2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27C8-3ABB-4B67-802C-A3DB583B01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6AEC-87C1-4229-B30E-19D4D2F7A8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499A-7917-4FED-AD58-2BE6D614C1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41D1-AE7E-42B0-9403-1BAEECEA89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4827-6F07-4018-B480-3256F679D5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FBB9D-2432-4587-B28E-A85EA7BC07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7396E-03BD-4748-B60E-9B65087B489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21066-A44C-4198-A941-70F604204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9C276-CD1F-4B90-B8E1-219B6B6E5B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AA483-4583-4B0E-A72A-338E77CF2B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8BA04-BB76-414C-AE87-9308D43417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4A5B1-A433-485F-8695-492AD246D7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DE883-6D85-4942-928F-F1739FB2CF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7A1A7-CE72-43D6-9608-EF131B1976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DAA71-905E-4E5B-A736-4295DB20F6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1B116-71D8-4F47-AD1E-7C98AA920A2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A2963-B0D1-473C-B451-11F4017303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DCAC9-9EDC-43D1-A20A-93CF29D441A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EEA98-BC82-4404-B44A-455BBAA90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18E15-985B-4F81-BEF9-078BC8E228F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8604B3-045E-4801-B31D-009F4D94C01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A6E9BE-8907-4CCD-8B57-7C4C1FBBA68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75D41-48EF-4D75-B1CA-4673C9B6FEE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5FF9E0-ECCB-4B36-BD13-FB664A96A2C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401C9A-11B8-46FF-8941-C721B52AFA1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1052A-67CC-42AF-9D50-85AFE0A1C5F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4FB7F1-7DF7-4357-A425-79A8E76D764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4E135A-10EE-45AD-A6F9-A01B9F7C5D2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FA7011-877E-4516-8A29-285309A1FE1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71A2F1-99CC-46B3-B2AE-1D7D6ABAE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793B5-2654-4C89-8DD8-9C401D1E6B0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CE3B26-B306-4DA3-B336-24A9AABB5A8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7DBD5-CB7B-4DD6-9108-9F47DF52B30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C7FBF-A164-45F3-BFD4-C49E4D228A1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835A8-3CB4-4F4E-B32C-BE746BE74C3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78757-400A-4C76-A380-24C8FDD9116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88B5D-04A9-4EB4-97CD-867CE0540CD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77493-7C30-49FC-9418-EB464A691AD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C1A3A-F243-4A3C-9448-0AA6BABA751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39831-9BBD-4DF1-AA42-C022812B8D2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9D504-838C-4DDE-B57E-6B827257F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3B1D-6359-4CD3-95C2-065F2381063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525BB-9C32-4D36-A1A5-9CFCAF08464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85EDA-870F-4274-8997-2F9B8A3C127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58ECC-4878-42FA-AD21-A623528F1FA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40D02-461E-4AFC-B604-CBBBE4B50E4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B9201-9F0C-4B01-9440-AB4A5B53823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B2406-AD5E-409D-A647-8C3FDCB7F1D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8DEAE1-7BAA-4747-BB89-E0DBA24A6F6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CA8C7-32D3-4A91-867D-4E5F1B9AD99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6EE2B-EF69-46AF-BECB-B8A958B45B7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6290A-9921-405B-AE2C-A21BFF715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0C03-02BC-4D27-B69D-0377ED2AB6C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AE0033-9336-422E-A9FD-390F81FCB50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5B586-99DD-4E7D-8C8B-3AEC02D1F7C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1A4C3-C74A-493B-B7A9-186B8482734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23859-D2B7-4222-98EF-F8F6BFE4D54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1AE34-85D8-4E73-AD31-82C7F6C47D6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1EA157-C57F-4D2E-B2F1-0E45B24EA3B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EDF451-CFF5-4F6B-BE4E-7830126445D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F8B5C6-FCAB-451C-9A6D-B411D79117F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EE5F5F-921D-4AEE-8626-88392CE9FB9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AE0F92-DE6D-4D76-A8FC-9920A19B1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0181-BB3C-43CC-9C46-28DC43F3A2C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9D14E8-B8E9-4248-929B-3F071BBBD2B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DC7203-C118-4054-A779-6222E31E59A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33BFC6-A25E-490D-AD69-076BB5D10A8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1BB17E-9B5D-497A-95E0-A2A5E1A52AE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E6062E-FD9C-449C-9242-D9709C54592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E172BB-D9C3-42CE-85B6-C3847F0799F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510BB3-0550-45A8-8B99-BEA5643DC93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E44AC-461F-42ED-BB4D-443F34493C7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79DF1-8DE0-43B4-A293-64342CF77DA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B4F4F-4C28-487A-82F4-E56692547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B6E8F3B5-48AD-45C0-AFB2-BF47B178B1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ftr" idx="1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FF3EFFE1-EF23-4241-8850-1B4B579DB0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ftr" idx="2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70BC2A6B-B463-409F-BACC-510EBD1733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2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EFFBF5B5-F4FB-4B0A-B8AB-C91C6F5DAB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9C308EFF-BD29-48D7-964E-AA35E9E9BD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E1C1AFA8-FA6E-474F-83D4-4990A1AA64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1ACC3FF5-D19D-4144-B0FA-0B97C1D138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94875AA6-64DA-4AC4-8C2B-3B9960BE87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601357F1-E199-4B3C-9441-25D7881B19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1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F8037865-8A85-4CDF-81B1-EDDA4CEA19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E1FC0A7D-0447-449D-B436-FA24047BFF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c01l03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3-</a:t>
            </a:r>
            <a:fld id="{73A48FF3-8049-411F-94CF-C788B5B75D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F6CCBA1E-FDDD-4FC0-8CD2-55C9E5D26B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2200" y="1622520"/>
            <a:ext cx="783900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use verbs, you will ne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arn about subject pronouns. A subject pronoun replaces the name or title of a person or thing and acts as the subject of a verb. In both Spanish and English, subject pronou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divided into three groups: first person, second person, and third per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anteTodo"/>
          <p:cNvPicPr/>
          <p:nvPr/>
        </p:nvPicPr>
        <p:blipFill>
          <a:blip r:embed="rId1"/>
          <a:stretch/>
        </p:blipFill>
        <p:spPr>
          <a:xfrm>
            <a:off x="736560" y="2247840"/>
            <a:ext cx="167652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79590C73-FAC0-49EC-9C19-45DE541861A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followed by the artic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two combine to form the contrac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c01l03_p020_05"/>
          <p:cNvPicPr/>
          <p:nvPr/>
        </p:nvPicPr>
        <p:blipFill>
          <a:blip r:embed="rId1"/>
          <a:stretch/>
        </p:blipFill>
        <p:spPr>
          <a:xfrm>
            <a:off x="457200" y="3086280"/>
            <a:ext cx="822960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47EBAD8C-C4E0-4B62-9052-3BD14ED2701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5" descr="c01l03_p021_01"/>
          <p:cNvPicPr/>
          <p:nvPr/>
        </p:nvPicPr>
        <p:blipFill>
          <a:blip r:embed="rId1"/>
          <a:stretch/>
        </p:blipFill>
        <p:spPr>
          <a:xfrm>
            <a:off x="812880" y="2108160"/>
            <a:ext cx="7442280" cy="276372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so uses the preposi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xpress ori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" descr="c01l03_p021_02"/>
          <p:cNvPicPr/>
          <p:nvPr/>
        </p:nvPicPr>
        <p:blipFill>
          <a:blip r:embed="rId2"/>
          <a:stretch/>
        </p:blipFill>
        <p:spPr>
          <a:xfrm>
            <a:off x="765000" y="4813200"/>
            <a:ext cx="756612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AF94E952-5E9E-4A56-A3C6-6A8E2924A84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ress profession or occup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c01l03_p021_03"/>
          <p:cNvPicPr/>
          <p:nvPr/>
        </p:nvPicPr>
        <p:blipFill>
          <a:blip r:embed="rId1"/>
          <a:stretch/>
        </p:blipFill>
        <p:spPr>
          <a:xfrm>
            <a:off x="457200" y="2362320"/>
            <a:ext cx="822960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CFCDEBDD-4580-411A-992A-A419DBE6C00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English, Spanish does not use the indefinite articl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f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eferring to professions, unless accompanied by an adjective or other descri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7" descr="c01l03_p021_04"/>
          <p:cNvPicPr/>
          <p:nvPr/>
        </p:nvPicPr>
        <p:blipFill>
          <a:blip r:embed="rId1"/>
          <a:stretch/>
        </p:blipFill>
        <p:spPr>
          <a:xfrm>
            <a:off x="457200" y="3606840"/>
            <a:ext cx="82296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22B63F98-3C90-4D89-8DDE-5F0B9BE646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c01l03_p021_05"/>
          <p:cNvPicPr/>
          <p:nvPr/>
        </p:nvPicPr>
        <p:blipFill>
          <a:blip r:embed="rId1"/>
          <a:stretch/>
        </p:blipFill>
        <p:spPr>
          <a:xfrm>
            <a:off x="457200" y="1832040"/>
            <a:ext cx="82296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F878FCE7-581F-4ED7-9AA2-D7FE314AC9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571680" y="2144880"/>
          <a:ext cx="8029440" cy="3705120"/>
        </p:xfrm>
        <a:graphic>
          <a:graphicData uri="http://schemas.openxmlformats.org/drawingml/2006/table">
            <a:tbl>
              <a:tblPr/>
              <a:tblGrid>
                <a:gridCol w="3835080"/>
                <a:gridCol w="4194360"/>
              </a:tblGrid>
              <a:tr h="1463400">
                <a:tc gridSpan="2"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the correct subject pronouns and the present forms of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he first item has been done for you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172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345960" indent="-34596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briel _____ 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 indent="-34596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 y yo _____ _____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 indent="-34596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scar y Flora _____ _____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 indent="-34596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iana _____ _____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345960" indent="-34596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turistas _____ _____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 indent="-34596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chico _____ _____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 indent="-34596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conductores _____ _____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 indent="-34596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señores Ruiz _____ _____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546" name="Text Box 147"/>
          <p:cNvSpPr/>
          <p:nvPr/>
        </p:nvSpPr>
        <p:spPr>
          <a:xfrm>
            <a:off x="2102760" y="3738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ff"/>
                </a:solidFill>
                <a:latin typeface="Comic Sans MS"/>
              </a:rPr>
              <a:t>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166" descr="intentalo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99"/>
          <p:cNvSpPr/>
          <p:nvPr/>
        </p:nvSpPr>
        <p:spPr>
          <a:xfrm>
            <a:off x="2890440" y="3738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ff"/>
                </a:solidFill>
                <a:latin typeface="Comic Sans MS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65B012A0-D4FE-40D6-887E-6152E73E0C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8" descr="c01l03_p019_01"/>
          <p:cNvPicPr/>
          <p:nvPr/>
        </p:nvPicPr>
        <p:blipFill>
          <a:blip r:embed="rId1"/>
          <a:stretch/>
        </p:blipFill>
        <p:spPr>
          <a:xfrm>
            <a:off x="457200" y="1555920"/>
            <a:ext cx="82296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81D69226-2611-430D-A0CB-F979572F60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has two subject pronouns that me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gular).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ddressing a friend, a family member, or a child you know well.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ddress a person with whom you have a formal or more distant relationship, such as a superior at work, a professor, or an older per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3" descr="c01l03_p019_02"/>
          <p:cNvPicPr/>
          <p:nvPr/>
        </p:nvPicPr>
        <p:blipFill>
          <a:blip r:embed="rId1"/>
          <a:stretch/>
        </p:blipFill>
        <p:spPr>
          <a:xfrm>
            <a:off x="457200" y="4832280"/>
            <a:ext cx="822960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5A3A8B61-D90B-46C0-839E-4EC4CBFFFB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sculine plural for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otr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sotr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l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 to a group of males or to a group of males and females. The feminine plural for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ot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sot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l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efer only to groups made up exclusively of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c01l03_p019_03"/>
          <p:cNvPicPr/>
          <p:nvPr/>
        </p:nvPicPr>
        <p:blipFill>
          <a:blip r:embed="rId1"/>
          <a:stretch/>
        </p:blipFill>
        <p:spPr>
          <a:xfrm>
            <a:off x="457200" y="3638520"/>
            <a:ext cx="82296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7A6C0E06-6D6A-4852-9375-7DE68B5B39D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Spanish equivalent of the English subject pronou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General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expressed in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4" descr="c01l03_p019_04"/>
          <p:cNvPicPr/>
          <p:nvPr/>
        </p:nvPicPr>
        <p:blipFill>
          <a:blip r:embed="rId1"/>
          <a:stretch/>
        </p:blipFill>
        <p:spPr>
          <a:xfrm>
            <a:off x="457200" y="3079800"/>
            <a:ext cx="82296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C4080182-9E6F-48F9-BA52-40A763787B9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esent tense of 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o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tonove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ou have already used several forms of the present tens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identify yourself and others and to talk about where you and others are from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rregular verb, which means its forms don’t follow the regular patterns that most verbs follow. You need to memorize the f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anteTodo"/>
          <p:cNvPicPr/>
          <p:nvPr/>
        </p:nvPicPr>
        <p:blipFill>
          <a:blip r:embed="rId1"/>
          <a:stretch/>
        </p:blipFill>
        <p:spPr>
          <a:xfrm>
            <a:off x="736560" y="2190600"/>
            <a:ext cx="167652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F8ACFF71-5BEB-4E17-97A5-24D47D0F2A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c01l03_p020_01"/>
          <p:cNvPicPr/>
          <p:nvPr/>
        </p:nvPicPr>
        <p:blipFill>
          <a:blip r:embed="rId1"/>
          <a:stretch/>
        </p:blipFill>
        <p:spPr>
          <a:xfrm>
            <a:off x="457200" y="1839960"/>
            <a:ext cx="822960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23F9519C-9696-49F7-BAAE-753E93A445A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5" descr="c01l03_p020_02"/>
          <p:cNvPicPr/>
          <p:nvPr/>
        </p:nvPicPr>
        <p:blipFill>
          <a:blip r:embed="rId1"/>
          <a:stretch/>
        </p:blipFill>
        <p:spPr>
          <a:xfrm>
            <a:off x="457200" y="2714760"/>
            <a:ext cx="8229600" cy="1665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people and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6" descr="c01l03_p020_03"/>
          <p:cNvPicPr/>
          <p:nvPr/>
        </p:nvPicPr>
        <p:blipFill>
          <a:blip r:embed="rId2"/>
          <a:stretch/>
        </p:blipFill>
        <p:spPr>
          <a:xfrm>
            <a:off x="457200" y="4273560"/>
            <a:ext cx="82296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3-</a:t>
            </a:r>
            <a:fld id="{F76B4C65-623A-435B-A073-F35E1DCF02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expresses possession, with the preposi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re is no Spanish equivalent of the English constru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+ ’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ite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In its place, Spanish uses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w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c01l03_p020_04"/>
          <p:cNvPicPr/>
          <p:nvPr/>
        </p:nvPicPr>
        <p:blipFill>
          <a:blip r:embed="rId1"/>
          <a:stretch/>
        </p:blipFill>
        <p:spPr>
          <a:xfrm>
            <a:off x="457200" y="3997440"/>
            <a:ext cx="82296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Jose</cp:lastModifiedBy>
  <dcterms:modified xsi:type="dcterms:W3CDTF">2013-08-18T01:21:28Z</dcterms:modified>
  <cp:revision>54</cp:revision>
  <dc:subject/>
  <dc:title>PowerPoint Presentation</dc:title>
</cp:coreProperties>
</file>